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2888-B013-46B8-98BE-43E031797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A8F2-398C-4364-B32B-6444F6AD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E1B7-B976-4B64-853C-67C884A40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F50A-605C-4F92-ACAB-E1BD665CC0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CEA4-E59F-42F9-9521-CE6EF5ECD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DC54-3E29-4316-9437-99D60BE8E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3C92-F99A-4F25-BF75-50AB2C24E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AED4-AE26-4004-BAAB-5A0974A7D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F07D-0B20-4A56-AFFC-888DC37B1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7D97-64E9-4317-916D-3E7BB94DB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FC34-F1AE-4436-B78C-F2B278884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C72B-BC42-4CC6-AFA0-31A893F5C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2C4A-3049-4BC4-B267-2C326F16D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097-4124-4813-98A5-468FF958A0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Numb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E98E-94E2-49AF-80CA-F9D4243C9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Learning Goal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Symbol"/>
                <a:ea typeface="Symbol"/>
              </a:rPr>
              <a:t></a:t>
            </a:r>
            <a:r>
              <a:rPr b="0" lang="en-CA" sz="3200" spc="-1" strike="noStrike">
                <a:solidFill>
                  <a:srgbClr val="b42478"/>
                </a:solidFill>
                <a:latin typeface="Times New Roman"/>
                <a:ea typeface="Times New Roman"/>
              </a:rPr>
              <a:t>-</a:t>
            </a: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To provide tools and strategies to help teachers manage students at different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To introduce teachers to CLIPS, and Gap Closing materials and give them some time to “play” with them.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FDF5-05E0-4776-9A96-EE986BC6F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inds On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Agree or Disagre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BD06990_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259092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B76B-6EED-4A78-844B-DC97C46B40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62120" y="20570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1000"/>
          </a:bodyPr>
          <a:p>
            <a:pPr marL="36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Math Carouse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p Clo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ered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24A9-2855-440A-9613-00AEDC404A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Let’s Tal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86E3-8FA7-4BDA-8801-C40CCEF88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000"/>
            </a:b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Auditory Wordle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2120" y="21337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9000"/>
          </a:bodyPr>
          <a:p>
            <a:pPr marL="34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b42478"/>
                </a:solidFill>
                <a:latin typeface="Tahoma"/>
                <a:ea typeface="Times New Roman"/>
              </a:rPr>
              <a:t>Many suggestions will be offered for ways to differentiate instruction.  These are all predicated on a classroom climate where mathematical conversation is the norm, a variety of student approaches are encouraged and valued, and students feel free to take ris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hdsb</cp:lastModifiedBy>
  <dcterms:modified xsi:type="dcterms:W3CDTF">2011-08-01T23:43:15Z</dcterms:modified>
  <cp:revision>10</cp:revision>
  <dc:subject/>
  <dc:title>&lt;Title&gt;</dc:title>
</cp:coreProperties>
</file>